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8B17-CE70-48F0-9531-0A507810706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5A24-8626-4375-B555-C8867070C3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97A-ECEC-40AD-A489-A41BE702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79D-C87D-44AD-9923-98E6BADA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121-83EA-4208-86BC-382AC88B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390-2DDE-4F64-85D9-90EC4898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D16-3E00-4E6B-9FF8-0601FDD8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AF4-2232-454B-99EA-C8476A39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C00-E98E-49AB-AB9E-125A91D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AD6-00BB-404B-9A75-F863E47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85B-C559-483E-8B93-A368D71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A6D-98C9-48D9-9DE5-7082939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442-1CBE-482E-BFAB-5C9EF1C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BF6-9B84-4BB2-9D37-8DFCCAA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651F-2CB2-416D-8EA4-3120345BCE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Exchange coefficients in H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325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038840" cy="3203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762120" y="5334120"/>
                <a:ext cx="1218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κ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762120" y="5943600"/>
                <a:ext cx="1676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κ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3276720" y="5029200"/>
                <a:ext cx="952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5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276720" y="5562720"/>
                <a:ext cx="331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5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8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3276720" y="6095880"/>
                <a:ext cx="28670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5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)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Box 15"/>
          <p:cNvSpPr/>
          <p:nvPr/>
        </p:nvSpPr>
        <p:spPr>
          <a:xfrm>
            <a:off x="449568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arnock relation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5"/>
              <p:cNvSpPr txBox="1"/>
              <p:nvPr/>
            </p:nvSpPr>
            <p:spPr>
              <a:xfrm>
                <a:off x="762120" y="48006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Box 18"/>
          <p:cNvSpPr/>
          <p:nvPr/>
        </p:nvSpPr>
        <p:spPr>
          <a:xfrm>
            <a:off x="7543800" y="6172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BLAST Drag Coeffici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Fig5_BAMS_new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5181480" y="5105520"/>
                <a:ext cx="2971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  <m:r>
                          <m:t xml:space="preserve">'</m:t>
                        </m:r>
                      </m:e>
                    </m:ba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e>
                    </m:ba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1219320" y="985680"/>
            <a:ext cx="4483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mith (1992) 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宋体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Calibri"/>
              </a:rPr>
              <a:t>Large and Pond (1980)</a:t>
            </a:r>
            <a:r>
              <a:rPr b="0" lang="en-CA" sz="1800" spc="-1" strike="noStrike">
                <a:solidFill>
                  <a:srgbClr val="0000ff"/>
                </a:solidFill>
                <a:latin typeface="Calibri"/>
                <a:ea typeface="宋体"/>
              </a:rPr>
              <a:t> ---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Calibri"/>
              </a:rPr>
              <a:t>Smith (1980)</a:t>
            </a:r>
            <a:r>
              <a:rPr b="0" lang="en-CA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CA" sz="1800" spc="-1" strike="noStrike">
                <a:solidFill>
                  <a:srgbClr val="ff0000"/>
                </a:solidFill>
                <a:latin typeface="Calibri"/>
              </a:rPr>
              <a:t>--</a:t>
            </a:r>
            <a:r>
              <a:rPr b="0" lang="en-CA" sz="1800" spc="-1" strike="noStrike">
                <a:solidFill>
                  <a:srgbClr val="ff0000"/>
                </a:solidFill>
                <a:latin typeface="Calibri"/>
                <a:ea typeface="宋体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cc00"/>
                </a:solidFill>
                <a:latin typeface="Calibri"/>
              </a:rPr>
              <a:t>COARE 3.0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BLAST LOW (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Calibri"/>
              </a:rPr>
              <a:t>Powell </a:t>
            </a:r>
            <a:r>
              <a:rPr b="0" lang="en-CA" sz="1800" spc="-1" strike="noStrike">
                <a:solidFill>
                  <a:srgbClr val="ff0000"/>
                </a:solidFill>
                <a:latin typeface="Calibri"/>
                <a:ea typeface="宋体"/>
              </a:rPr>
              <a:t>et al. </a:t>
            </a:r>
            <a:r>
              <a:rPr b="0" lang="en-CA" sz="1800" spc="-1" strike="noStrike">
                <a:solidFill>
                  <a:srgbClr val="ff0000"/>
                </a:solidFill>
                <a:latin typeface="Calibri"/>
              </a:rPr>
              <a:t>(2003</a:t>
            </a:r>
            <a:r>
              <a:rPr b="0" lang="en-CA" sz="1800" spc="-1" strike="noStrike">
                <a:solidFill>
                  <a:srgbClr val="ff0000"/>
                </a:solidFill>
                <a:latin typeface="Calibri"/>
                <a:ea typeface="宋体"/>
              </a:rPr>
              <a:t>)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  <a:ea typeface="Arial"/>
              </a:rPr>
              <a:t>−∙−−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onelan et al. (2004)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−−∙−∙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6"/>
              <p:cNvSpPr txBox="1"/>
              <p:nvPr/>
            </p:nvSpPr>
            <p:spPr>
              <a:xfrm>
                <a:off x="5867280" y="5486400"/>
                <a:ext cx="2286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τ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</m:den>
                    </m:f>
                    <m:sSubSup>
                      <m:e>
                        <m:r>
                          <m:t xml:space="preserve">ρ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8"/>
          <p:cNvSpPr/>
          <p:nvPr/>
        </p:nvSpPr>
        <p:spPr>
          <a:xfrm>
            <a:off x="6477120" y="1441440"/>
            <a:ext cx="2286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BLA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F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RF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R (X)    RR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2" descr="CkvsU10_forthesis"/>
          <p:cNvPicPr/>
          <p:nvPr/>
        </p:nvPicPr>
        <p:blipFill>
          <a:blip r:embed="rId1"/>
          <a:stretch/>
        </p:blipFill>
        <p:spPr>
          <a:xfrm>
            <a:off x="0" y="0"/>
            <a:ext cx="4876920" cy="3730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5"/>
              <p:cNvSpPr txBox="1"/>
              <p:nvPr/>
            </p:nvSpPr>
            <p:spPr>
              <a:xfrm>
                <a:off x="685800" y="304920"/>
                <a:ext cx="1143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w</m:t>
                        </m:r>
                        <m:r>
                          <m:t xml:space="preserve">'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685800" y="762120"/>
                <a:ext cx="22096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[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20"/>
          <p:cNvSpPr/>
          <p:nvPr/>
        </p:nvSpPr>
        <p:spPr>
          <a:xfrm>
            <a:off x="380880" y="22096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5715000" y="2514600"/>
            <a:ext cx="309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宋体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宋体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= 0.63 &lt; 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685800" y="2209680"/>
            <a:ext cx="1447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eeece1"/>
                </a:solidFill>
                <a:latin typeface="Calibri"/>
                <a:ea typeface="Arial"/>
              </a:rPr>
              <a:t>Δ</a:t>
            </a:r>
            <a:r>
              <a:rPr b="1" lang="en-US" sz="1400" spc="-1" strike="noStrike">
                <a:solidFill>
                  <a:srgbClr val="eeece1"/>
                </a:solidFill>
                <a:latin typeface="Calibri"/>
                <a:ea typeface="宋体"/>
              </a:rPr>
              <a:t>  CBLA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>
                <a:solidFill>
                  <a:srgbClr val="eeece1"/>
                </a:solidFill>
                <a:latin typeface="Calibri"/>
                <a:ea typeface="宋体"/>
              </a:rPr>
              <a:t>X   HEX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4800600" y="5335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ang, Black, French and Drennan, 2008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irst direct measurements of enthalpy flux in the hurricane boundary layer: the CBLAST result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eophys. Res. Lett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5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L14813,  oi:10.1029/2008GL0343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E:\Manuscripts\Published\GRL2008\Fig4_GRL.tif"/>
          <p:cNvPicPr/>
          <p:nvPr/>
        </p:nvPicPr>
        <p:blipFill>
          <a:blip r:embed="rId2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3"/>
          <p:cNvSpPr/>
          <p:nvPr/>
        </p:nvSpPr>
        <p:spPr>
          <a:xfrm>
            <a:off x="914400" y="45720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 observational study of Ck for wind speed higher than 3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617220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ertical diffusion coefficient (Unit:           ) at SIGMA=0.475 (~500hPa) at time (a) 24h and (b) 48h; and at SIGMA=0.945 (~960hPa) at time (c) 24h and (d) 48h  in the Pseudo Adiabatic Experiment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81280" y="6248520"/>
                <a:ext cx="4478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067400" y="19810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  <a:ea typeface="宋体"/>
              </a:rPr>
              <a:t>500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720" y="4572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  <a:ea typeface="宋体"/>
              </a:rPr>
              <a:t>960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057400" y="990720"/>
            <a:ext cx="5030640" cy="5054400"/>
            <a:chOff x="2057400" y="990720"/>
            <a:chExt cx="5030640" cy="5054400"/>
          </a:xfrm>
        </p:grpSpPr>
        <p:graphicFrame>
          <p:nvGraphicFramePr>
            <p:cNvPr id="87" name=""/>
            <p:cNvGraphicFramePr/>
            <p:nvPr/>
          </p:nvGraphicFramePr>
          <p:xfrm>
            <a:off x="2057400" y="3559680"/>
            <a:ext cx="2516040" cy="248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559680"/>
                      <a:ext cx="2516040" cy="24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571640" y="3559680"/>
            <a:ext cx="2516400" cy="248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1640" y="3559680"/>
                      <a:ext cx="2516400" cy="24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057400" y="994320"/>
            <a:ext cx="2514240" cy="248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994320"/>
                      <a:ext cx="2514240" cy="248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4571640" y="990720"/>
            <a:ext cx="2514240" cy="248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1640" y="990720"/>
                      <a:ext cx="2514240" cy="248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4114440" y="1273320"/>
                  <a:ext cx="22860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629040" y="1273320"/>
                  <a:ext cx="2282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114440" y="3787920"/>
                  <a:ext cx="2156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6629040" y="3787920"/>
                  <a:ext cx="2408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355840" y="22860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ertical diffusion coefficient (K_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380880"/>
            <a:ext cx="7924320" cy="4920840"/>
            <a:chOff x="762120" y="380880"/>
            <a:chExt cx="7924320" cy="4920840"/>
          </a:xfrm>
        </p:grpSpPr>
        <p:graphicFrame>
          <p:nvGraphicFramePr>
            <p:cNvPr id="101" name=""/>
            <p:cNvGraphicFramePr/>
            <p:nvPr/>
          </p:nvGraphicFramePr>
          <p:xfrm>
            <a:off x="762120" y="380880"/>
            <a:ext cx="3964680" cy="23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380880"/>
                      <a:ext cx="3964680" cy="23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4723920" y="380880"/>
            <a:ext cx="3962520" cy="232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3920" y="380880"/>
                      <a:ext cx="3962520" cy="232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762120" y="2957040"/>
            <a:ext cx="3964680" cy="2344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2957040"/>
                      <a:ext cx="39646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723920" y="2957040"/>
            <a:ext cx="3961800" cy="2342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3920" y="2957040"/>
                      <a:ext cx="3961800" cy="234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3733200" y="666720"/>
                  <a:ext cx="33012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695360" y="666720"/>
                  <a:ext cx="33012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733200" y="3243600"/>
                  <a:ext cx="3117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695360" y="3243600"/>
                  <a:ext cx="3484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990720" y="5486400"/>
            <a:ext cx="723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adius-height cross-section of horizontal diffusion coefficient (Unit:                     ) at time (a) 24h and (b) 48h; and vertical diffusion coefficient (Unit:           ) at time (c) 24h and (d) 48h in the Pseudo Adiabatic Experiment(See:  Sang et al., 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62920" y="5486400"/>
                <a:ext cx="7617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29400" y="5791320"/>
                <a:ext cx="5335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6110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Vertical Eddy Viscosity (CBLAST - Hurricane Isabel 20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0:20:35Z</dcterms:created>
  <dc:creator> </dc:creator>
  <dc:description/>
  <dc:language>en-US</dc:language>
  <cp:lastModifiedBy>gopal</cp:lastModifiedBy>
  <dcterms:modified xsi:type="dcterms:W3CDTF">2009-03-18T23:25:30Z</dcterms:modified>
  <cp:revision>22</cp:revision>
  <dc:subject/>
  <dc:title>Exchange coefficients in HRS</dc:title>
</cp:coreProperties>
</file>